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CCBF7-C93E-43EE-A765-2932707E1C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EE130-FC1D-49B8-BCF1-7528F2B2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E6568F-819C-4AC9-84EA-355E4144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03E6DA-9C97-4E6C-A850-78CA15D1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E53AF6-C69D-4B34-B3FC-00E1053B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EFBF84-626A-4AB3-82B3-59D03BAB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AD0B24-D494-4493-BF6B-55B668F1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A1CB06-3EAE-4BBA-8396-F0DE2C64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20E4F5-F9A9-43C8-BC0C-57FA4419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869171-AF76-413A-B85A-4AC7EF23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60C4A8-7DA7-479F-BFDD-6759DDBB27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D67C1-A231-4E30-B8E1-D5DBFC3379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4216A-F63A-4F35-9ED4-BFA8B618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B4651-59F3-409C-B806-5B7DCA2A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2B8E5-F84A-4678-A46D-FA87A82E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6FFF3-8C6B-4BC0-B330-E4EDD664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964B4-073C-4315-885C-FC6BB5AD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3B648-E2C8-421E-91F9-47D672C2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A63DE-AC80-4BC9-9496-E3B55E46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9D2E5-79D0-4E43-A026-884DFA1A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E5B11-07E4-4D9E-9ED0-4D3A5D93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7A2A8-E59F-4E48-B481-CCD433D4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2C64F-09E4-4140-8B53-704D0CF8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6557-8622-4F44-A4DB-0E351AAED3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A9C0F-96C2-4A72-92E5-549799522D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CAB497-FA69-4A3A-AA62-883A99B406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80CE66-C335-44B0-9ED7-E30886C1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00D551-43AE-4180-9CC6-BD808731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60C406-CDE4-4A1C-AF2F-8F5A6DDD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A0F9F3-E3C5-4049-BA3F-1A01FA85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EFF798-B3A9-4D5A-9ED7-BA20303A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C4BC0D-CB0F-463F-9435-FB55A2F8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5E64AF-4E1D-41CD-9B45-3CB51389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C9158F-5CE5-485A-B3E9-AD3F74B5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27168-244B-4AE5-8F31-01171027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E78F51-2268-421A-A7E6-6EE02250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DB6375-38EB-4580-B8D6-7CABD07B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7D21F1-D751-4164-B124-99E4CB7912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728DB-D5C7-4DB0-9E55-0A6ACB101E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66935-7D32-4A8F-B092-B2F85780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AF591-F9ED-4E9A-95BD-5ABE843A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1E130-E620-48F6-97A9-719AFC3A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FC070C-608B-4895-A339-69B19A46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93493-0CF6-409E-A53A-24ECE915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4435B-EF4C-4999-8FD0-3E51EDD6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DE07C-906F-4469-AF79-C91893B8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D5243-A12E-42F3-9360-44F0FADD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3273C-EF0D-49AD-978B-109101D0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DE357-3DA1-437C-8BEE-B1F6B38F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4A02A-9B0D-4A89-9D86-5C159DE9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0FE4D-4830-4E67-B531-9C183E2D68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9251F-BD88-445C-BAF9-645CDCCC72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1F842-1439-4E9F-9558-9ACD9FCC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40B8D-B180-4898-B272-A09F036A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DA15C-8A4E-4EA9-BE56-424C2B9F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C2E53-66B6-4A4E-BAE1-BEC37D6A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0D3E1-ECEB-4A2D-AEF0-783CB208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170CB-81DF-41FD-8EEF-87C1C4FE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FE2BE-95CB-4B08-A999-78D5179E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C19A9-0922-4FF8-8EF2-9E2B6268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7A7E9-A481-4028-BB46-CB70612C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EF3CB-A5C8-499C-B23A-D2DFBDFF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F79B0-2CA6-490C-8B33-CA4C0D89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848C8-78A9-439A-B243-F1610B71D2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83F84-23C9-47F0-8EF3-F81D6E0A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345B5-DBB3-4E34-B6DC-8A70610B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CAF4A-E713-4F1C-9553-C89D8968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7CD5D-BBA3-461D-9B4B-D655481D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94BE4-1029-4829-98BA-95451646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D6387-A44F-4FE4-810C-DFFD960F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E7795-DD86-41C6-AD5C-C8885148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1B66B-1ADD-4F2B-BA63-690EEA32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07848-3A44-410E-B258-A0081751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B235E-C77D-4254-A3DC-4B73D95E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4BAFC-6DEC-458D-9D04-4AA9C1A0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22B0D-2037-4261-A319-9748339E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4CD7E-7B95-4309-ABDC-3B6698A9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2D903-B553-49B7-9CE4-A2A8B134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4BA2C-BC7D-44D6-8231-AE152E38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7D419-D5D6-4A84-B90B-8FD46695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270BE-C0FB-4D04-8821-39FBF5E2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C0445-B195-4D7C-BF84-C1D0FFB1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343D8-04DC-4C3B-96AC-ABB8F605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C5480-3695-4D04-B826-18D5C5F0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86A2E-AE81-49BA-8DA0-8248CC3A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B1B9B-0021-4E91-9FF0-3AEAB62A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D4004-C094-4265-937A-18948483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C32AA-3E2C-4A57-80FD-CAED80F8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2AD7A-092D-4953-B124-82FF752B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06F11-3C4B-4B40-B14B-D5655527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01D62-D892-4020-9D26-16B102F3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7C279-7A4A-4EA3-8439-9A5221FC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8203A-844A-42D2-A71D-6D625636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4B88D-7484-44FE-A370-D8008AD0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68B9F-F404-42A3-9EB7-563ECCB2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E340B-CA5B-4E08-ABB7-C3C0B390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4D359-1428-445C-B02A-7FC24F86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A5500-EDB2-428B-BEE9-41BD5B28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592A8-D1FD-4A67-A219-844DE29C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0C4D0-2903-42B7-8FEA-3EE46258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B495C-A64D-43CA-9B7A-CA65D473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932CD-451F-4FE2-9960-7399DAE8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76FB5-21E2-4B05-BD3D-7174847D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32D6D-895F-4073-B78A-C93ADE7C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AB07E-3C13-438C-92AC-BFB92FE2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B91CB-41E4-4A3D-B8C3-9E53CA6A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A67F4-D2BE-4A4B-AFBE-0305192E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4BB03-16D9-4618-AF93-554BD0C9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338CB-F88F-416F-B0D1-74BDF77B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42706-B519-4771-8607-6FF98FA1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FF3F7-8A96-4EB2-A906-56FE0E8C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E530B-202A-4D8B-A42F-82A7C4D4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5065A-2C2A-4998-A7E2-5203A0A4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38A7E-905C-48E5-A85C-EB6D80F3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F4FF5-1935-41F9-8D96-C37EF4EF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3E9B7-E15E-4F6A-9364-7EF064C0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769C6-1DE8-4AC9-A283-28AF9F26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2C711-137B-46C6-A50D-2E71132A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75932-BB7A-498A-8374-B57AAEAF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7EBAA-A095-46FE-95E5-A6DC8273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99675-D992-4368-B17F-B810E74A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C1538-7496-40B8-A33A-3A57DD03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27BCC-33FB-4FA4-BB61-4AB29B59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5963F-9BBD-40D7-92D8-2A118BCE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F196A-366F-427B-88EC-62760267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C30CF-BC35-4E5F-A56A-4087B880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F5BF1-DB1F-44D0-8FDF-302EA8F5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999B48-7720-45D2-A6EA-723D04BC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39884-90F4-4228-A6A2-9A23BD22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A83E5-8A0B-4509-A87A-CBCB2957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978F5-F45A-45D2-82C8-D9FD8EFA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00BD0F-4700-4191-B75E-D6A08BD4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B7BDA-31A6-4BDF-B944-B44578E5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48204C-7730-42C1-9548-52D076F5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5C9AE-5FD3-4D70-8BEE-B5F93419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550D2-8D26-4F9A-9D5E-F36B66A9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3B559F-190A-49E7-81DB-03A40BDC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86C29-E127-4C2B-B442-BD84523C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5C6037-7AFD-49C5-AC75-EC403C72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7DFD37-3881-4E0C-8752-1B807F6D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687197-01EB-4DC3-A9C7-6041D51A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458F5-7B05-4A79-B22E-E8E5289D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E66D3C-71C0-4DD4-83E8-9F50CA67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2B1A3-9C25-46E2-A160-F7C07E93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28870A-D332-4999-A778-684F76F8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E439E-67EB-4B6E-9D78-3D734A61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4FA5E-BBC9-4398-A0B8-1010775F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DD8AB-3C7B-46ED-A34D-78DBB85F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60F5A-6D7E-4D8A-BE55-ACE61625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096E30-02CF-4B06-97BF-5C2713F6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B3165-E093-472D-B7BC-F7AE7923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788B1-020C-47A3-879C-163DD21F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14296E-4C76-4085-848D-2B0912DC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7ED3B-3162-4BD6-BD5C-87E59BC6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CD5C5B-D6F8-43A0-A8CE-2BA418B0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1276E-E356-4779-8C21-6925EA1E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1F8E7-99A9-40BF-AB2D-0F684CA6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4B7BC-1E6D-45F3-B1C8-45A28C65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EBB011-BC07-4D55-A69F-9AC49D43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38B430-C1EE-4EF7-AB23-848949C9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7C2066-6D9E-41D5-A697-432EB2C7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357EE-CF73-4435-92F7-1E4ECFA4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622FB8-ADBB-4E8F-8588-7C906334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7FA58-BB12-462C-B030-FC042D71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37176D-772B-4D56-BD37-B9F14197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E4D3A-56D1-422D-B4CE-DE1ECDDC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4F798A-6EAD-4BD0-BDC0-FC978269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394517-AAE7-4C39-BC9B-0EFF32BE0B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F15818-CE8F-4F53-A505-676F5E35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AEF2E-691F-4D1D-8294-F98F1451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07EF9A-9047-4DB9-8901-3676B6D7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D98E61-9798-4B53-8723-FFE2BCEC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FEE716-0568-4A77-81F6-80164B06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D34571-8160-459C-A0D5-A17E572E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6DD6D-9C40-485D-A11F-10C38A55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A4E28A-06C4-4528-8D81-D7EB0CA2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D95BFA-A83A-462C-8A15-B685B7F4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F59A8D-22B5-4D20-A0EB-330EA76B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0FA427-95A3-4EDB-A7FE-632D0063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834710-384A-4849-AF57-17A14562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18F566-DF8E-44F8-B12D-C1D7F448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910413-8EE1-4522-9EB6-BB0753E1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38FFED-68B4-4C09-9BE5-B5470491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3EE5E9-0B87-4258-A374-FF5D9A50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F9B2D3-4695-4581-95F9-ADAE88BD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CD829E-5033-44B5-AEA2-4CEB51BF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EB5DDE-6490-43EF-8A41-A0369244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A72091-3BB5-4361-A48B-D9A737A1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D21A74-FF06-4CC7-820C-EBE09AE2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286B7-48E6-4AA6-AF68-F82779FB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D4CF9A-FF53-40AD-B2F2-E2080F65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FCFDC3-1D42-4898-A93D-8677210D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81A3D0-8083-485A-838B-D4F161A8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8DEADD-B191-42F1-BA0F-D42234A0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FF9689-9BE0-4390-824C-6763A712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39B2D4-12EC-4CF5-8EF8-C670CC41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BF795E-E90A-4511-81CE-6EAE6518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DF91BE-8FFC-4220-A777-83E9AA9C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8E6D24-432D-4DD9-AECA-C910989B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4B9AC2-A63B-4B17-A274-E3C8E5B6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CCFFEC-FB28-4093-8921-46E5DB13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F5B8BC-01AB-4755-BA21-8994B7B8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876A70-88BA-4530-9AC7-0B220815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36B5A-F7D7-4255-8ED2-84B5913E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C3A44B-1EB2-4013-B32B-E56069CB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5D827B-7073-489F-AE55-7DB6E94E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61C603-4814-42F9-B03A-CD99100C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8F19D9-30D7-425D-A30F-43312F6E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FFEDE4-1C16-4372-95CE-1BBDCCDF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6040E6-0A45-4272-B5A8-E694BD0A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C1E8F0-4935-451C-AA52-D186772B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E6209-D380-45C3-9576-B60B36B8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C390B9-D800-4DB6-A401-CC1FFFE1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CEE18-8EE0-4ECB-8D0D-F335ABC7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3D88B3-086F-4F74-AD5C-1FC4362D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7ADE62-2EAA-4D75-8259-0E566A1E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D72AD1-E78C-4B39-B713-67C2C672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E01E14-8142-498E-8586-CBD9A82D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2DBA8F-5DE2-4FEB-BD44-465CA6FB9B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9FED4-75D7-482C-81A5-C175CBD0F3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A24B3-1ECB-4B00-AF5B-40FC5F1A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6D283-051C-4592-B90F-15D4842C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665DC-5277-40BC-89AC-96328B31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CF43B-AF84-4735-BE2C-490DF376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C4AEA-CF0A-47B7-9BE3-89C2F78A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298F4-6A0A-4677-88C0-D06B2414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172A-E16B-4769-A92C-9E11DE4E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3FAC-3AB1-44CE-AA81-7FD7139A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0E2A3-5BD6-400D-BA73-B3B5CCB1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D6A71-B88C-4048-8B7C-6ED13567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8B663-0D0F-44DF-8554-3766DF7A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9B009-2D70-4E1E-838E-C380867F5C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1BF8EF-DF85-4F34-BEDB-7F1F655245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81FE2-8C77-4D71-BAFB-BDF59BFD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806B7-A154-4E10-84B0-6269145F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79920-9290-4911-854F-ACF47436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C13B8-AF05-49CC-BF8E-DB1DAEB8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0C95C5-FF41-4E87-8E83-2994CA11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F83F5-05AD-4A11-A6D8-C158DB5C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A4C760-B830-4A91-921F-DACE057B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DC29E-3E25-4560-96C8-A7B0B175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45D28B-BF5C-45B3-AF99-5F773414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EC2692-E156-4C51-AD25-F7E007A8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DC1BFB-4BA4-4117-B78D-1DE400FF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A19F-6DB9-4321-9952-2BDF3D20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F98B9E-149A-4955-9951-608FDC3FFB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CE48F6-589B-42C3-BB3C-DF49919C6B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27CBCF-AE51-40E3-A18E-357D8CB2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6DAFC5-7D92-40D0-A168-3D2C3685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9BCD91-6BE8-4DE3-9666-36354772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E8B0BC-5326-40D9-A17F-01CD10C2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D6959D-2E11-42A3-9037-AFE4A46E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D1E399-6C80-440F-866A-A0801157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916816-D095-4C95-995B-55E1FB0C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A03DE5-9118-4190-A4F4-78E2BB3C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D77E-66F4-42E4-B6BF-658F3D1D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063B1C-945C-4A87-8DD9-6AFB3D6C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66FBC2-3F6B-4293-A82C-737295D0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B92C42-64F4-464E-8341-86FBA3A2E9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C91F5-C115-4A82-8949-04673833A4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A7A60-DC5A-4E94-882D-C62834BC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D0BBA-B07A-4B59-9259-279D2669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344DB-8CE1-4B47-949A-19059F0F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77E7F-012E-4C18-85EB-9DE806E2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9C481-4FDD-46AD-A88F-1D77C18E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90080-21FD-451C-866F-256395B8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19EA-F27B-484D-968C-0C35378A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5455A-8118-4B20-B285-6CA41F15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0585-5A4C-4B03-97E5-DD64663F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08B6C-0DC6-4FF1-A85C-2CB2DFD0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D67E3-0BA3-47F1-ADB8-E4623FCC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B8B49-0CA7-4E75-8080-C04F1891DA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37238-83D2-4EC4-A2A5-F7AC4DC138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0B625-EC47-413C-A835-7D5B0947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D4282-F945-4F73-818C-D189BBEB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19148-889B-48B8-B905-4AED45A3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29C640-E696-4516-9B5E-ECFFB88A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5434-8B24-4F8C-B167-E617536B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59F4E-F072-4A4A-A381-598E097C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3E1DEA-3204-4AEE-BB32-8335A845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0A2E9-B1DC-4FC8-8B12-3176C409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CA82C2-CC82-4FB2-8D1C-9FFE8899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66819-FD42-4204-A91E-9DA99BA6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2CEDAC-8AC5-4C27-8BEF-06ADA879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59AAF-313C-49A7-96A0-FC286ADE55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097643-BD97-4827-B77D-1D7315B2B4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0AC577-7331-4B66-AFC7-CB0BA5AF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84CF35-D1A1-4EAD-A1BD-B4FB7AFF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8E0B-7DCB-4186-AAA6-E42A21EB59B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899E-3A42-4246-AE87-35125DF9944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6BD4-487A-4946-B9C1-4225479D6E1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DFED-78E2-48C5-AAC1-60A04AE8219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5174-0286-46BB-8784-0B543F17C6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F0E4-FA62-4AFF-A402-0CE4DAE9C47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FED1-6FF5-405E-A035-569DFD90792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1747-4F80-424A-AB79-D91A598D121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11A6-EFF5-42B3-BFC4-15BD35BE686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A59D-817B-49D3-8486-5554F760242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4187-062A-4A45-9684-616A66A4261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8142-336E-47A0-AAF4-C3AE19DA338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16ED-A47A-420B-A0CB-8663A64D7AE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3527-BBF8-4A8F-95E2-FA17DF2D556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1469-D68C-4BBD-8677-1E3BD8B7DE9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87D3-2B78-41A8-9283-3A3B29DCA5F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0670-4BB0-4336-9412-13E1625B8AD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5ADD-3CC0-4487-BA68-CB2A574855B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51B0-44D6-4C35-903E-B561875489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05C5-7069-4C0C-B607-3A679C71007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D761-6961-4707-AB2F-D35C1A65A02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3A5B-7DA9-4978-97EA-702ED253E8D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2168-DD59-46AB-AF8A-AD31CBE7E85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6EBA-11F8-4BE9-AE4D-FB9B431EFD9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5167080" cy="360"/>
            <a:chOff x="2284560" y="2448000"/>
            <a:chExt cx="516708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5167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516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2516040" y="271620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1998720" y="266688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乘法   倍的认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1162080" y="1744560"/>
            <a:ext cx="69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TextBox 3"/>
          <p:cNvSpPr/>
          <p:nvPr/>
        </p:nvSpPr>
        <p:spPr>
          <a:xfrm>
            <a:off x="71280" y="500040"/>
            <a:ext cx="8929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回来还乘同样票价的火车，这次旅游买火车票一共花了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少钱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4"/>
          <p:cNvSpPr/>
          <p:nvPr/>
        </p:nvSpPr>
        <p:spPr>
          <a:xfrm>
            <a:off x="1785960" y="478152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15×3×2=129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这次旅游买火车票一共花了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29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Picture 2" descr="D:\我的文档-桌面-收藏夹\桌面\b587c960c54a.jpg"/>
          <p:cNvPicPr/>
          <p:nvPr/>
        </p:nvPicPr>
        <p:blipFill>
          <a:blip r:embed="rId1"/>
          <a:srcRect l="0" t="0" r="0" b="3734"/>
          <a:stretch/>
        </p:blipFill>
        <p:spPr>
          <a:xfrm>
            <a:off x="3000240" y="519120"/>
            <a:ext cx="3571920" cy="3214800"/>
          </a:xfrm>
          <a:prstGeom prst="rect">
            <a:avLst/>
          </a:prstGeom>
          <a:ln w="0">
            <a:noFill/>
          </a:ln>
        </p:spPr>
      </p:pic>
      <p:sp>
        <p:nvSpPr>
          <p:cNvPr id="1192" name="椭圆形标注 7"/>
          <p:cNvSpPr/>
          <p:nvPr/>
        </p:nvSpPr>
        <p:spPr>
          <a:xfrm>
            <a:off x="928800" y="1500120"/>
            <a:ext cx="1928880" cy="785880"/>
          </a:xfrm>
          <a:prstGeom prst="wedgeEllipseCallout">
            <a:avLst>
              <a:gd name="adj1" fmla="val 79699"/>
              <a:gd name="adj2" fmla="val 101731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买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张票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云形标注 8"/>
          <p:cNvSpPr/>
          <p:nvPr/>
        </p:nvSpPr>
        <p:spPr>
          <a:xfrm>
            <a:off x="6286680" y="1236600"/>
            <a:ext cx="2143080" cy="1500120"/>
          </a:xfrm>
          <a:prstGeom prst="cloudCallout">
            <a:avLst>
              <a:gd name="adj1" fmla="val -127162"/>
              <a:gd name="adj2" fmla="val -3708"/>
            </a:avLst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每张火车票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215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元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组合 2"/>
          <p:cNvGrpSpPr/>
          <p:nvPr/>
        </p:nvGrpSpPr>
        <p:grpSpPr>
          <a:xfrm>
            <a:off x="0" y="101520"/>
            <a:ext cx="2746440" cy="525600"/>
            <a:chOff x="0" y="101520"/>
            <a:chExt cx="2746440" cy="525600"/>
          </a:xfrm>
        </p:grpSpPr>
        <p:pic>
          <p:nvPicPr>
            <p:cNvPr id="1195" name="圆角矩形 6" descr=""/>
            <p:cNvPicPr/>
            <p:nvPr/>
          </p:nvPicPr>
          <p:blipFill>
            <a:blip r:embed="rId2"/>
            <a:stretch/>
          </p:blipFill>
          <p:spPr>
            <a:xfrm>
              <a:off x="123120" y="101520"/>
              <a:ext cx="2623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6" name="组合 4"/>
            <p:cNvGrpSpPr/>
            <p:nvPr/>
          </p:nvGrpSpPr>
          <p:grpSpPr>
            <a:xfrm>
              <a:off x="0" y="197280"/>
              <a:ext cx="362520" cy="272160"/>
              <a:chOff x="0" y="197280"/>
              <a:chExt cx="362520" cy="272160"/>
            </a:xfrm>
          </p:grpSpPr>
          <p:sp>
            <p:nvSpPr>
              <p:cNvPr id="1197" name="椭圆 2"/>
              <p:cNvSpPr/>
              <p:nvPr/>
            </p:nvSpPr>
            <p:spPr>
              <a:xfrm rot="16200000">
                <a:off x="228960" y="361080"/>
                <a:ext cx="9360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8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62360" y="33948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9" name="椭圆 3"/>
              <p:cNvSpPr/>
              <p:nvPr/>
            </p:nvSpPr>
            <p:spPr>
              <a:xfrm rot="16200000">
                <a:off x="228960" y="240840"/>
                <a:ext cx="9360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0" name="椭圆 4" descr=""/>
              <p:cNvPicPr/>
              <p:nvPr/>
            </p:nvPicPr>
            <p:blipFill>
              <a:blip r:embed="rId4"/>
              <a:stretch/>
            </p:blipFill>
            <p:spPr>
              <a:xfrm>
                <a:off x="162360" y="21348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1" name="圆角矩形 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784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圆角矩形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2616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圆角矩形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860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圆角矩形 12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728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1" name="椭圆 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AutoShape 27"/>
          <p:cNvSpPr/>
          <p:nvPr/>
        </p:nvSpPr>
        <p:spPr>
          <a:xfrm>
            <a:off x="3513240" y="1701720"/>
            <a:ext cx="3668760" cy="555840"/>
          </a:xfrm>
          <a:prstGeom prst="wedgeRoundRectCallout">
            <a:avLst>
              <a:gd name="adj1" fmla="val 56791"/>
              <a:gd name="adj2" fmla="val 417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怎样计算多位数乘一位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27"/>
          <p:cNvSpPr/>
          <p:nvPr/>
        </p:nvSpPr>
        <p:spPr>
          <a:xfrm>
            <a:off x="2362320" y="2460600"/>
            <a:ext cx="3508200" cy="1286280"/>
          </a:xfrm>
          <a:prstGeom prst="wedgeRoundRectCallout">
            <a:avLst>
              <a:gd name="adj1" fmla="val -56689"/>
              <a:gd name="adj2" fmla="val -1049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两个因数的末位要对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从个位起，用一位数依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乘多位数的每一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27"/>
          <p:cNvSpPr/>
          <p:nvPr/>
        </p:nvSpPr>
        <p:spPr>
          <a:xfrm>
            <a:off x="3513240" y="4446720"/>
            <a:ext cx="2736720" cy="1286280"/>
          </a:xfrm>
          <a:prstGeom prst="wedgeRoundRectCallout">
            <a:avLst>
              <a:gd name="adj1" fmla="val 57532"/>
              <a:gd name="adj2" fmla="val 357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哪一位上的数相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满几十，就要向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一位进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图片 45" descr="]@P`{@U$K{A7A$9804YYMFT"/>
          <p:cNvPicPr/>
          <p:nvPr/>
        </p:nvPicPr>
        <p:blipFill>
          <a:blip r:embed="rId8"/>
          <a:stretch/>
        </p:blipFill>
        <p:spPr>
          <a:xfrm>
            <a:off x="441360" y="2155680"/>
            <a:ext cx="1496880" cy="190188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46" descr="6)5][}VZ%@FXJ)FA]TI76$O"/>
          <p:cNvPicPr/>
          <p:nvPr/>
        </p:nvPicPr>
        <p:blipFill>
          <a:blip r:embed="rId9"/>
          <a:stretch/>
        </p:blipFill>
        <p:spPr>
          <a:xfrm flipH="1">
            <a:off x="7480440" y="1325520"/>
            <a:ext cx="1358640" cy="144792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47" descr="AG]4}@PH9UX]GS)L_H5_`K9"/>
          <p:cNvPicPr/>
          <p:nvPr/>
        </p:nvPicPr>
        <p:blipFill>
          <a:blip r:embed="rId10"/>
          <a:stretch/>
        </p:blipFill>
        <p:spPr>
          <a:xfrm flipH="1">
            <a:off x="6635880" y="4446720"/>
            <a:ext cx="76680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6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18" name="椭圆 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9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6" name="AutoShape 27"/>
          <p:cNvSpPr/>
          <p:nvPr/>
        </p:nvSpPr>
        <p:spPr>
          <a:xfrm>
            <a:off x="1785960" y="1635120"/>
            <a:ext cx="3021120" cy="530280"/>
          </a:xfrm>
          <a:prstGeom prst="wedgeRoundRectCallout">
            <a:avLst>
              <a:gd name="adj1" fmla="val -55939"/>
              <a:gd name="adj2" fmla="val 4429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谁能准确计算这道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1"/>
          <p:cNvSpPr/>
          <p:nvPr/>
        </p:nvSpPr>
        <p:spPr>
          <a:xfrm>
            <a:off x="1441440" y="4775040"/>
            <a:ext cx="1965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8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组合 6"/>
          <p:cNvGrpSpPr/>
          <p:nvPr/>
        </p:nvGrpSpPr>
        <p:grpSpPr>
          <a:xfrm>
            <a:off x="4024440" y="3173400"/>
            <a:ext cx="2717640" cy="2244600"/>
            <a:chOff x="4024440" y="3173400"/>
            <a:chExt cx="2717640" cy="2244600"/>
          </a:xfrm>
        </p:grpSpPr>
        <p:grpSp>
          <p:nvGrpSpPr>
            <p:cNvPr id="1029" name="Group 54"/>
            <p:cNvGrpSpPr/>
            <p:nvPr/>
          </p:nvGrpSpPr>
          <p:grpSpPr>
            <a:xfrm>
              <a:off x="4024440" y="3173400"/>
              <a:ext cx="2717640" cy="2244600"/>
              <a:chOff x="4024440" y="3173400"/>
              <a:chExt cx="2717640" cy="2244600"/>
            </a:xfrm>
          </p:grpSpPr>
          <p:sp>
            <p:nvSpPr>
              <p:cNvPr id="1030" name="AutoShape 27"/>
              <p:cNvSpPr/>
              <p:nvPr/>
            </p:nvSpPr>
            <p:spPr>
              <a:xfrm>
                <a:off x="4024440" y="3176640"/>
                <a:ext cx="2717640" cy="2241360"/>
              </a:xfrm>
              <a:prstGeom prst="wedgeRoundRectCallout">
                <a:avLst>
                  <a:gd name="adj1" fmla="val 58870"/>
                  <a:gd name="adj2" fmla="val -1101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c1c1c"/>
                    </a:solidFill>
                    <a:latin typeface="楷体_GB2312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c1c1c"/>
                    </a:solidFill>
                    <a:latin typeface="楷体_GB2312"/>
                  </a:rPr>
                  <a:t>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Box 11"/>
              <p:cNvSpPr/>
              <p:nvPr/>
            </p:nvSpPr>
            <p:spPr>
              <a:xfrm>
                <a:off x="4958280" y="3173400"/>
                <a:ext cx="14472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3   2   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TextBox 12"/>
              <p:cNvSpPr/>
              <p:nvPr/>
            </p:nvSpPr>
            <p:spPr>
              <a:xfrm>
                <a:off x="4132080" y="3721320"/>
                <a:ext cx="2376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×              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直接连接符 47"/>
              <p:cNvSpPr/>
              <p:nvPr/>
            </p:nvSpPr>
            <p:spPr>
              <a:xfrm flipV="1">
                <a:off x="4246560" y="4376880"/>
                <a:ext cx="2272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TextBox 23"/>
            <p:cNvSpPr/>
            <p:nvPr/>
          </p:nvSpPr>
          <p:spPr>
            <a:xfrm>
              <a:off x="6005520" y="4348440"/>
              <a:ext cx="5428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26"/>
            <p:cNvSpPr/>
            <p:nvPr/>
          </p:nvSpPr>
          <p:spPr>
            <a:xfrm>
              <a:off x="5648760" y="3997800"/>
              <a:ext cx="34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23"/>
            <p:cNvSpPr/>
            <p:nvPr/>
          </p:nvSpPr>
          <p:spPr>
            <a:xfrm>
              <a:off x="5481720" y="4348440"/>
              <a:ext cx="5428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Box 26"/>
            <p:cNvSpPr/>
            <p:nvPr/>
          </p:nvSpPr>
          <p:spPr>
            <a:xfrm>
              <a:off x="5153400" y="3997800"/>
              <a:ext cx="34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Box 23"/>
            <p:cNvSpPr/>
            <p:nvPr/>
          </p:nvSpPr>
          <p:spPr>
            <a:xfrm>
              <a:off x="4967280" y="4348440"/>
              <a:ext cx="5428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Box 23"/>
            <p:cNvSpPr/>
            <p:nvPr/>
          </p:nvSpPr>
          <p:spPr>
            <a:xfrm>
              <a:off x="4443480" y="4348440"/>
              <a:ext cx="5428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0" name="图片 45" descr="]@P`{@U$K{A7A$9804YYMFT"/>
          <p:cNvPicPr/>
          <p:nvPr/>
        </p:nvPicPr>
        <p:blipFill>
          <a:blip r:embed="rId8"/>
          <a:stretch/>
        </p:blipFill>
        <p:spPr>
          <a:xfrm>
            <a:off x="289080" y="2290680"/>
            <a:ext cx="1496880" cy="190188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46" descr="6)5][}VZ%@FXJ)FA]TI76$O"/>
          <p:cNvPicPr/>
          <p:nvPr/>
        </p:nvPicPr>
        <p:blipFill>
          <a:blip r:embed="rId9"/>
          <a:stretch/>
        </p:blipFill>
        <p:spPr>
          <a:xfrm flipH="1">
            <a:off x="7106760" y="3178080"/>
            <a:ext cx="1357560" cy="14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43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45" name="椭圆 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6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3" name="AutoShape 27"/>
          <p:cNvSpPr/>
          <p:nvPr/>
        </p:nvSpPr>
        <p:spPr>
          <a:xfrm>
            <a:off x="4417920" y="865080"/>
            <a:ext cx="2841840" cy="555840"/>
          </a:xfrm>
          <a:prstGeom prst="wedgeRoundRectCallout">
            <a:avLst>
              <a:gd name="adj1" fmla="val 58773"/>
              <a:gd name="adj2" fmla="val 417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先估算一下再连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Picture 22" descr="113"/>
          <p:cNvPicPr/>
          <p:nvPr/>
        </p:nvPicPr>
        <p:blipFill>
          <a:blip r:embed="rId8"/>
          <a:stretch/>
        </p:blipFill>
        <p:spPr>
          <a:xfrm>
            <a:off x="846000" y="1955880"/>
            <a:ext cx="7453440" cy="1439640"/>
          </a:xfrm>
          <a:prstGeom prst="rect">
            <a:avLst/>
          </a:prstGeom>
          <a:ln w="0">
            <a:noFill/>
          </a:ln>
        </p:spPr>
      </p:pic>
      <p:sp>
        <p:nvSpPr>
          <p:cNvPr id="1055" name="AutoShape 27"/>
          <p:cNvSpPr/>
          <p:nvPr/>
        </p:nvSpPr>
        <p:spPr>
          <a:xfrm>
            <a:off x="2475000" y="4840200"/>
            <a:ext cx="4599000" cy="891000"/>
          </a:xfrm>
          <a:prstGeom prst="wedgeRoundRectCallout">
            <a:avLst>
              <a:gd name="adj1" fmla="val -55101"/>
              <a:gd name="adj2" fmla="val 2414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可以看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00×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等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所以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连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图片 45" descr="]@P`{@U$K{A7A$9804YYMFT"/>
          <p:cNvPicPr/>
          <p:nvPr/>
        </p:nvPicPr>
        <p:blipFill>
          <a:blip r:embed="rId9"/>
          <a:stretch/>
        </p:blipFill>
        <p:spPr>
          <a:xfrm>
            <a:off x="538200" y="4145040"/>
            <a:ext cx="1496880" cy="190188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46" descr="6)5][}VZ%@FXJ)FA]TI76$O"/>
          <p:cNvPicPr/>
          <p:nvPr/>
        </p:nvPicPr>
        <p:blipFill>
          <a:blip r:embed="rId10"/>
          <a:stretch/>
        </p:blipFill>
        <p:spPr>
          <a:xfrm flipH="1">
            <a:off x="7489440" y="434880"/>
            <a:ext cx="13590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9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61" name="椭圆 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2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9" name="AutoShape 27"/>
          <p:cNvSpPr/>
          <p:nvPr/>
        </p:nvSpPr>
        <p:spPr>
          <a:xfrm>
            <a:off x="3840120" y="1062000"/>
            <a:ext cx="3281400" cy="969840"/>
          </a:xfrm>
          <a:prstGeom prst="wedgeRoundRectCallout">
            <a:avLst>
              <a:gd name="adj1" fmla="val 57013"/>
              <a:gd name="adj2" fmla="val 3297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你能提出什么数学问题？你会解答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27"/>
          <p:cNvSpPr/>
          <p:nvPr/>
        </p:nvSpPr>
        <p:spPr>
          <a:xfrm>
            <a:off x="2048040" y="5237280"/>
            <a:ext cx="3670200" cy="891000"/>
          </a:xfrm>
          <a:prstGeom prst="wedgeRoundRectCallout">
            <a:avLst>
              <a:gd name="adj1" fmla="val -56393"/>
              <a:gd name="adj2" fmla="val 169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这场的票房收入是多少元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图片 45" descr="]@P`{@U$K{A7A$9804YYMFT"/>
          <p:cNvPicPr/>
          <p:nvPr/>
        </p:nvPicPr>
        <p:blipFill>
          <a:blip r:embed="rId8"/>
          <a:stretch/>
        </p:blipFill>
        <p:spPr>
          <a:xfrm>
            <a:off x="179280" y="4233960"/>
            <a:ext cx="1497240" cy="190188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46" descr="6)5][}VZ%@FXJ)FA]TI76$O"/>
          <p:cNvPicPr/>
          <p:nvPr/>
        </p:nvPicPr>
        <p:blipFill>
          <a:blip r:embed="rId9"/>
          <a:stretch/>
        </p:blipFill>
        <p:spPr>
          <a:xfrm flipH="1">
            <a:off x="7532640" y="984240"/>
            <a:ext cx="1357200" cy="144792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3" descr="XG[_E~B{_BUH7Q0}JI3C)JV"/>
          <p:cNvPicPr/>
          <p:nvPr/>
        </p:nvPicPr>
        <p:blipFill>
          <a:blip r:embed="rId10"/>
          <a:stretch/>
        </p:blipFill>
        <p:spPr>
          <a:xfrm>
            <a:off x="3763800" y="3005280"/>
            <a:ext cx="1860840" cy="153828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4" descr="MC66Q[{Y45LR((`J]5HOAOB"/>
          <p:cNvPicPr/>
          <p:nvPr/>
        </p:nvPicPr>
        <p:blipFill>
          <a:blip r:embed="rId11"/>
          <a:stretch/>
        </p:blipFill>
        <p:spPr>
          <a:xfrm>
            <a:off x="1676520" y="3005280"/>
            <a:ext cx="2087280" cy="1914480"/>
          </a:xfrm>
          <a:prstGeom prst="rect">
            <a:avLst/>
          </a:prstGeom>
          <a:ln w="0">
            <a:noFill/>
          </a:ln>
        </p:spPr>
      </p:pic>
      <p:sp>
        <p:nvSpPr>
          <p:cNvPr id="1075" name="文本框 5"/>
          <p:cNvSpPr/>
          <p:nvPr/>
        </p:nvSpPr>
        <p:spPr>
          <a:xfrm>
            <a:off x="2259000" y="3301920"/>
            <a:ext cx="14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票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20"/>
          <p:cNvSpPr/>
          <p:nvPr/>
        </p:nvSpPr>
        <p:spPr>
          <a:xfrm>
            <a:off x="1822320" y="26035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剧场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7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座位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8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9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80" name="椭圆 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1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8" name="AutoShape 27"/>
          <p:cNvSpPr/>
          <p:nvPr/>
        </p:nvSpPr>
        <p:spPr>
          <a:xfrm>
            <a:off x="1795320" y="4280040"/>
            <a:ext cx="2435400" cy="1286280"/>
          </a:xfrm>
          <a:prstGeom prst="wedgeRoundRectCallout">
            <a:avLst>
              <a:gd name="adj1" fmla="val -59250"/>
              <a:gd name="adj2" fmla="val -962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回来还乘同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票价的火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什么意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AutoShape 27"/>
          <p:cNvSpPr/>
          <p:nvPr/>
        </p:nvSpPr>
        <p:spPr>
          <a:xfrm>
            <a:off x="4560840" y="4910040"/>
            <a:ext cx="2516400" cy="1286280"/>
          </a:xfrm>
          <a:prstGeom prst="wedgeRoundRectCallout">
            <a:avLst>
              <a:gd name="adj1" fmla="val 58893"/>
              <a:gd name="adj2" fmla="val 579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这句话的意思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回来还要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元的火车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AutoShape 27"/>
          <p:cNvSpPr/>
          <p:nvPr/>
        </p:nvSpPr>
        <p:spPr>
          <a:xfrm>
            <a:off x="4489560" y="3639960"/>
            <a:ext cx="3314520" cy="496440"/>
          </a:xfrm>
          <a:prstGeom prst="wedgeRoundRectCallout">
            <a:avLst>
              <a:gd name="adj1" fmla="val 54013"/>
              <a:gd name="adj2" fmla="val -4681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5×3×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9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图片 3" descr="XG[_E~B{_BUH7Q0}JI3C)JV"/>
          <p:cNvPicPr/>
          <p:nvPr/>
        </p:nvPicPr>
        <p:blipFill>
          <a:blip r:embed="rId8"/>
          <a:stretch/>
        </p:blipFill>
        <p:spPr>
          <a:xfrm>
            <a:off x="3017880" y="868320"/>
            <a:ext cx="1861920" cy="1540080"/>
          </a:xfrm>
          <a:prstGeom prst="rect">
            <a:avLst/>
          </a:prstGeom>
          <a:ln w="0">
            <a:noFill/>
          </a:ln>
        </p:spPr>
      </p:pic>
      <p:pic>
        <p:nvPicPr>
          <p:cNvPr id="1092" name="图片 46" descr="6)5][}VZ%@FXJ)FA]TI76$O"/>
          <p:cNvPicPr/>
          <p:nvPr/>
        </p:nvPicPr>
        <p:blipFill>
          <a:blip r:embed="rId9"/>
          <a:stretch/>
        </p:blipFill>
        <p:spPr>
          <a:xfrm flipH="1">
            <a:off x="8112240" y="3511440"/>
            <a:ext cx="915840" cy="974880"/>
          </a:xfrm>
          <a:prstGeom prst="rect">
            <a:avLst/>
          </a:prstGeom>
          <a:ln w="0">
            <a:noFill/>
          </a:ln>
        </p:spPr>
      </p:pic>
      <p:pic>
        <p:nvPicPr>
          <p:cNvPr id="1093" name="图片 2" descr="6)5][}VZ%@FXJ)FA]TI76$O"/>
          <p:cNvPicPr/>
          <p:nvPr/>
        </p:nvPicPr>
        <p:blipFill>
          <a:blip r:embed="rId10"/>
          <a:stretch/>
        </p:blipFill>
        <p:spPr>
          <a:xfrm flipH="1">
            <a:off x="7400880" y="4686480"/>
            <a:ext cx="1357200" cy="1447560"/>
          </a:xfrm>
          <a:prstGeom prst="rect">
            <a:avLst/>
          </a:prstGeom>
          <a:ln w="0">
            <a:noFill/>
          </a:ln>
        </p:spPr>
      </p:pic>
      <p:pic>
        <p:nvPicPr>
          <p:cNvPr id="1094" name="图片 45" descr="]@P`{@U$K{A7A$9804YYMFT"/>
          <p:cNvPicPr/>
          <p:nvPr/>
        </p:nvPicPr>
        <p:blipFill>
          <a:blip r:embed="rId11"/>
          <a:stretch/>
        </p:blipFill>
        <p:spPr>
          <a:xfrm>
            <a:off x="0" y="4152960"/>
            <a:ext cx="1496880" cy="1901880"/>
          </a:xfrm>
          <a:prstGeom prst="rect">
            <a:avLst/>
          </a:prstGeom>
          <a:ln w="0">
            <a:noFill/>
          </a:ln>
        </p:spPr>
      </p:pic>
      <p:sp>
        <p:nvSpPr>
          <p:cNvPr id="1095" name="文本框 4"/>
          <p:cNvSpPr/>
          <p:nvPr/>
        </p:nvSpPr>
        <p:spPr>
          <a:xfrm>
            <a:off x="46080" y="2503440"/>
            <a:ext cx="9051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回来还乘同样票价的火车，这次旅游买火车票一共花了多少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图片 5" descr="MC66Q[{Y45LR((`J]5HOAOB"/>
          <p:cNvPicPr/>
          <p:nvPr/>
        </p:nvPicPr>
        <p:blipFill>
          <a:blip r:embed="rId12"/>
          <a:stretch/>
        </p:blipFill>
        <p:spPr>
          <a:xfrm>
            <a:off x="46080" y="766800"/>
            <a:ext cx="2889360" cy="1782720"/>
          </a:xfrm>
          <a:prstGeom prst="rect">
            <a:avLst/>
          </a:prstGeom>
          <a:ln w="0">
            <a:noFill/>
          </a:ln>
        </p:spPr>
      </p:pic>
      <p:sp>
        <p:nvSpPr>
          <p:cNvPr id="1097" name="文本框 6"/>
          <p:cNvSpPr/>
          <p:nvPr/>
        </p:nvSpPr>
        <p:spPr>
          <a:xfrm>
            <a:off x="836640" y="1100160"/>
            <a:ext cx="17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张火车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组合 2"/>
          <p:cNvGrpSpPr/>
          <p:nvPr/>
        </p:nvGrpSpPr>
        <p:grpSpPr>
          <a:xfrm>
            <a:off x="0" y="163440"/>
            <a:ext cx="2906640" cy="525600"/>
            <a:chOff x="0" y="163440"/>
            <a:chExt cx="2906640" cy="525600"/>
          </a:xfrm>
        </p:grpSpPr>
        <p:pic>
          <p:nvPicPr>
            <p:cNvPr id="10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48680" y="163440"/>
              <a:ext cx="27579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0" name="组合 4"/>
            <p:cNvGrpSpPr/>
            <p:nvPr/>
          </p:nvGrpSpPr>
          <p:grpSpPr>
            <a:xfrm>
              <a:off x="0" y="207720"/>
              <a:ext cx="381600" cy="271800"/>
              <a:chOff x="0" y="207720"/>
              <a:chExt cx="381600" cy="271800"/>
            </a:xfrm>
          </p:grpSpPr>
          <p:sp>
            <p:nvSpPr>
              <p:cNvPr id="1101" name="椭圆 1"/>
              <p:cNvSpPr/>
              <p:nvPr/>
            </p:nvSpPr>
            <p:spPr>
              <a:xfrm rot="16200000">
                <a:off x="232560" y="373680"/>
                <a:ext cx="9612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77840" y="346680"/>
                <a:ext cx="203760" cy="12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3" name="椭圆 29"/>
              <p:cNvSpPr/>
              <p:nvPr/>
            </p:nvSpPr>
            <p:spPr>
              <a:xfrm rot="16200000">
                <a:off x="232560" y="250200"/>
                <a:ext cx="9612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7840" y="223560"/>
                <a:ext cx="203760" cy="12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64320"/>
                <a:ext cx="309960" cy="1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3720"/>
                <a:ext cx="309960" cy="1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38320"/>
                <a:ext cx="309960" cy="1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07720"/>
                <a:ext cx="309960" cy="109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09" name="Picture 2" descr="D:\我的文档-桌面-收藏夹\桌面\QQ截图20150211145618.png"/>
          <p:cNvPicPr/>
          <p:nvPr/>
        </p:nvPicPr>
        <p:blipFill>
          <a:blip r:embed="rId8"/>
          <a:stretch/>
        </p:blipFill>
        <p:spPr>
          <a:xfrm>
            <a:off x="1460520" y="1214280"/>
            <a:ext cx="525456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矩形 2"/>
          <p:cNvSpPr/>
          <p:nvPr/>
        </p:nvSpPr>
        <p:spPr>
          <a:xfrm>
            <a:off x="357120" y="1076400"/>
            <a:ext cx="83581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2×3=      15×6=        204×7=       913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4"/>
          <p:cNvSpPr/>
          <p:nvPr/>
        </p:nvSpPr>
        <p:spPr>
          <a:xfrm>
            <a:off x="1357200" y="180324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Box 5"/>
          <p:cNvSpPr/>
          <p:nvPr/>
        </p:nvSpPr>
        <p:spPr>
          <a:xfrm>
            <a:off x="3214800" y="177804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6"/>
          <p:cNvSpPr/>
          <p:nvPr/>
        </p:nvSpPr>
        <p:spPr>
          <a:xfrm>
            <a:off x="5643720" y="175428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42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7"/>
          <p:cNvSpPr/>
          <p:nvPr/>
        </p:nvSpPr>
        <p:spPr>
          <a:xfrm>
            <a:off x="357120" y="3013200"/>
            <a:ext cx="807264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1×2=      156×9=       2600×4=       190×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8"/>
          <p:cNvSpPr/>
          <p:nvPr/>
        </p:nvSpPr>
        <p:spPr>
          <a:xfrm>
            <a:off x="1425600" y="37069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9"/>
          <p:cNvSpPr/>
          <p:nvPr/>
        </p:nvSpPr>
        <p:spPr>
          <a:xfrm>
            <a:off x="3471840" y="370692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40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10"/>
          <p:cNvSpPr/>
          <p:nvPr/>
        </p:nvSpPr>
        <p:spPr>
          <a:xfrm>
            <a:off x="5907240" y="368460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4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11"/>
          <p:cNvSpPr/>
          <p:nvPr/>
        </p:nvSpPr>
        <p:spPr>
          <a:xfrm>
            <a:off x="0" y="874800"/>
            <a:ext cx="7358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计算，能口算的就口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组合 18"/>
          <p:cNvGrpSpPr/>
          <p:nvPr/>
        </p:nvGrpSpPr>
        <p:grpSpPr>
          <a:xfrm>
            <a:off x="4500720" y="2160720"/>
            <a:ext cx="1571400" cy="1071360"/>
            <a:chOff x="4500720" y="2160720"/>
            <a:chExt cx="1571400" cy="1071360"/>
          </a:xfrm>
        </p:grpSpPr>
        <p:sp>
          <p:nvSpPr>
            <p:cNvPr id="1120" name="TextBox 19"/>
            <p:cNvSpPr/>
            <p:nvPr/>
          </p:nvSpPr>
          <p:spPr>
            <a:xfrm>
              <a:off x="4500720" y="2160720"/>
              <a:ext cx="157140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0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7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4 2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4571640" y="3017520"/>
              <a:ext cx="1214640" cy="360"/>
              <a:chOff x="4571640" y="3017520"/>
              <a:chExt cx="1214640" cy="360"/>
            </a:xfrm>
          </p:grpSpPr>
          <p:sp>
            <p:nvSpPr>
              <p:cNvPr id="1122" name="直接连接符 20"/>
              <p:cNvSpPr/>
              <p:nvPr/>
            </p:nvSpPr>
            <p:spPr>
              <a:xfrm>
                <a:off x="4572000" y="3017880"/>
                <a:ext cx="1214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 txBox="1"/>
              <p:nvPr/>
            </p:nvSpPr>
            <p:spPr>
              <a:xfrm rot="10800000">
                <a:off x="4571640" y="3017520"/>
                <a:ext cx="1214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4" name="组合 24"/>
          <p:cNvGrpSpPr/>
          <p:nvPr/>
        </p:nvGrpSpPr>
        <p:grpSpPr>
          <a:xfrm>
            <a:off x="2286000" y="4160880"/>
            <a:ext cx="1571760" cy="1071360"/>
            <a:chOff x="2286000" y="4160880"/>
            <a:chExt cx="1571760" cy="1071360"/>
          </a:xfrm>
        </p:grpSpPr>
        <p:sp>
          <p:nvSpPr>
            <p:cNvPr id="1125" name="TextBox 25"/>
            <p:cNvSpPr/>
            <p:nvPr/>
          </p:nvSpPr>
          <p:spPr>
            <a:xfrm>
              <a:off x="2286000" y="4160880"/>
              <a:ext cx="15717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9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4 0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2478600" y="5018040"/>
              <a:ext cx="1236240" cy="360"/>
              <a:chOff x="2478600" y="5018040"/>
              <a:chExt cx="1236240" cy="360"/>
            </a:xfrm>
          </p:grpSpPr>
          <p:sp>
            <p:nvSpPr>
              <p:cNvPr id="1127" name="直接连接符 26"/>
              <p:cNvSpPr/>
              <p:nvPr/>
            </p:nvSpPr>
            <p:spPr>
              <a:xfrm>
                <a:off x="2478600" y="5018040"/>
                <a:ext cx="1236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 txBox="1"/>
              <p:nvPr/>
            </p:nvSpPr>
            <p:spPr>
              <a:xfrm>
                <a:off x="2478600" y="5018040"/>
                <a:ext cx="1236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9" name="组合 27"/>
          <p:cNvGrpSpPr/>
          <p:nvPr/>
        </p:nvGrpSpPr>
        <p:grpSpPr>
          <a:xfrm>
            <a:off x="4572000" y="4160880"/>
            <a:ext cx="1857240" cy="1071360"/>
            <a:chOff x="4572000" y="4160880"/>
            <a:chExt cx="1857240" cy="1071360"/>
          </a:xfrm>
        </p:grpSpPr>
        <p:sp>
          <p:nvSpPr>
            <p:cNvPr id="1130" name="TextBox 28"/>
            <p:cNvSpPr/>
            <p:nvPr/>
          </p:nvSpPr>
          <p:spPr>
            <a:xfrm>
              <a:off x="4572000" y="4160880"/>
              <a:ext cx="185724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6 0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0 4 0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4714560" y="5018040"/>
              <a:ext cx="1428840" cy="360"/>
              <a:chOff x="4714560" y="5018040"/>
              <a:chExt cx="1428840" cy="360"/>
            </a:xfrm>
          </p:grpSpPr>
          <p:sp>
            <p:nvSpPr>
              <p:cNvPr id="1132" name="直接连接符 29"/>
              <p:cNvSpPr/>
              <p:nvPr/>
            </p:nvSpPr>
            <p:spPr>
              <a:xfrm>
                <a:off x="4714560" y="5018040"/>
                <a:ext cx="1428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 txBox="1"/>
              <p:nvPr/>
            </p:nvSpPr>
            <p:spPr>
              <a:xfrm>
                <a:off x="4714560" y="5018040"/>
                <a:ext cx="142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4" name="TextBox 30"/>
          <p:cNvSpPr/>
          <p:nvPr/>
        </p:nvSpPr>
        <p:spPr>
          <a:xfrm>
            <a:off x="7929720" y="175428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30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组合 31"/>
          <p:cNvGrpSpPr/>
          <p:nvPr/>
        </p:nvGrpSpPr>
        <p:grpSpPr>
          <a:xfrm>
            <a:off x="6786720" y="2160720"/>
            <a:ext cx="1571400" cy="1071360"/>
            <a:chOff x="6786720" y="2160720"/>
            <a:chExt cx="1571400" cy="1071360"/>
          </a:xfrm>
        </p:grpSpPr>
        <p:sp>
          <p:nvSpPr>
            <p:cNvPr id="1136" name="TextBox 32"/>
            <p:cNvSpPr/>
            <p:nvPr/>
          </p:nvSpPr>
          <p:spPr>
            <a:xfrm>
              <a:off x="6786720" y="2160720"/>
              <a:ext cx="157140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9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 8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7 3 0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"/>
            <p:cNvGrpSpPr/>
            <p:nvPr/>
          </p:nvGrpSpPr>
          <p:grpSpPr>
            <a:xfrm>
              <a:off x="6929280" y="3017880"/>
              <a:ext cx="1285920" cy="360"/>
              <a:chOff x="6929280" y="3017880"/>
              <a:chExt cx="1285920" cy="360"/>
            </a:xfrm>
          </p:grpSpPr>
          <p:sp>
            <p:nvSpPr>
              <p:cNvPr id="1138" name="直接连接符 33"/>
              <p:cNvSpPr/>
              <p:nvPr/>
            </p:nvSpPr>
            <p:spPr>
              <a:xfrm>
                <a:off x="6929280" y="3017880"/>
                <a:ext cx="12859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 txBox="1"/>
              <p:nvPr/>
            </p:nvSpPr>
            <p:spPr>
              <a:xfrm>
                <a:off x="6929280" y="3017880"/>
                <a:ext cx="1285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0" name="组合 34"/>
          <p:cNvGrpSpPr/>
          <p:nvPr/>
        </p:nvGrpSpPr>
        <p:grpSpPr>
          <a:xfrm>
            <a:off x="6858000" y="4089240"/>
            <a:ext cx="1571760" cy="1071720"/>
            <a:chOff x="6858000" y="4089240"/>
            <a:chExt cx="1571760" cy="1071720"/>
          </a:xfrm>
        </p:grpSpPr>
        <p:sp>
          <p:nvSpPr>
            <p:cNvPr id="1141" name="TextBox 35"/>
            <p:cNvSpPr/>
            <p:nvPr/>
          </p:nvSpPr>
          <p:spPr>
            <a:xfrm>
              <a:off x="6858000" y="4089240"/>
              <a:ext cx="157176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9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5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9 5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7050600" y="4946760"/>
              <a:ext cx="1236240" cy="360"/>
              <a:chOff x="7050600" y="4946760"/>
              <a:chExt cx="1236240" cy="360"/>
            </a:xfrm>
          </p:grpSpPr>
          <p:sp>
            <p:nvSpPr>
              <p:cNvPr id="1143" name="直接连接符 36"/>
              <p:cNvSpPr/>
              <p:nvPr/>
            </p:nvSpPr>
            <p:spPr>
              <a:xfrm>
                <a:off x="7050600" y="4946760"/>
                <a:ext cx="1236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 txBox="1"/>
              <p:nvPr/>
            </p:nvSpPr>
            <p:spPr>
              <a:xfrm>
                <a:off x="7050600" y="4946760"/>
                <a:ext cx="1236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5" name="TextBox 37"/>
          <p:cNvSpPr/>
          <p:nvPr/>
        </p:nvSpPr>
        <p:spPr>
          <a:xfrm>
            <a:off x="8104320" y="370692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5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6" name="组合 2"/>
          <p:cNvGrpSpPr/>
          <p:nvPr/>
        </p:nvGrpSpPr>
        <p:grpSpPr>
          <a:xfrm>
            <a:off x="0" y="101520"/>
            <a:ext cx="2746440" cy="525600"/>
            <a:chOff x="0" y="101520"/>
            <a:chExt cx="2746440" cy="525600"/>
          </a:xfrm>
        </p:grpSpPr>
        <p:pic>
          <p:nvPicPr>
            <p:cNvPr id="1147" name="圆角矩形 6" descr=""/>
            <p:cNvPicPr/>
            <p:nvPr/>
          </p:nvPicPr>
          <p:blipFill>
            <a:blip r:embed="rId1"/>
            <a:stretch/>
          </p:blipFill>
          <p:spPr>
            <a:xfrm>
              <a:off x="123120" y="101520"/>
              <a:ext cx="2623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8" name="组合 4"/>
            <p:cNvGrpSpPr/>
            <p:nvPr/>
          </p:nvGrpSpPr>
          <p:grpSpPr>
            <a:xfrm>
              <a:off x="0" y="197280"/>
              <a:ext cx="362520" cy="272160"/>
              <a:chOff x="0" y="197280"/>
              <a:chExt cx="362520" cy="272160"/>
            </a:xfrm>
          </p:grpSpPr>
          <p:sp>
            <p:nvSpPr>
              <p:cNvPr id="1149" name="椭圆 7"/>
              <p:cNvSpPr/>
              <p:nvPr/>
            </p:nvSpPr>
            <p:spPr>
              <a:xfrm rot="16200000">
                <a:off x="228960" y="361080"/>
                <a:ext cx="9360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0" name="椭圆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2360" y="33948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1" name="椭圆 29"/>
              <p:cNvSpPr/>
              <p:nvPr/>
            </p:nvSpPr>
            <p:spPr>
              <a:xfrm rot="16200000">
                <a:off x="228960" y="240840"/>
                <a:ext cx="9360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2360" y="21348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784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616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60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Box 3"/>
          <p:cNvSpPr/>
          <p:nvPr/>
        </p:nvSpPr>
        <p:spPr>
          <a:xfrm>
            <a:off x="279360" y="738360"/>
            <a:ext cx="5578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估算一下，连一连，再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4"/>
          <p:cNvSpPr/>
          <p:nvPr/>
        </p:nvSpPr>
        <p:spPr>
          <a:xfrm>
            <a:off x="642960" y="1857240"/>
            <a:ext cx="164304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1700×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5"/>
          <p:cNvSpPr/>
          <p:nvPr/>
        </p:nvSpPr>
        <p:spPr>
          <a:xfrm>
            <a:off x="2714760" y="1857240"/>
            <a:ext cx="164304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192×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6"/>
          <p:cNvSpPr/>
          <p:nvPr/>
        </p:nvSpPr>
        <p:spPr>
          <a:xfrm>
            <a:off x="4857840" y="1857240"/>
            <a:ext cx="164304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302×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7"/>
          <p:cNvSpPr/>
          <p:nvPr/>
        </p:nvSpPr>
        <p:spPr>
          <a:xfrm>
            <a:off x="7000920" y="1857240"/>
            <a:ext cx="164304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42×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8"/>
          <p:cNvSpPr/>
          <p:nvPr/>
        </p:nvSpPr>
        <p:spPr>
          <a:xfrm>
            <a:off x="785880" y="3643200"/>
            <a:ext cx="107136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25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9"/>
          <p:cNvSpPr/>
          <p:nvPr/>
        </p:nvSpPr>
        <p:spPr>
          <a:xfrm>
            <a:off x="2928960" y="3643200"/>
            <a:ext cx="107172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57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矩形 10"/>
          <p:cNvSpPr/>
          <p:nvPr/>
        </p:nvSpPr>
        <p:spPr>
          <a:xfrm>
            <a:off x="5072040" y="3643200"/>
            <a:ext cx="121464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51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11"/>
          <p:cNvSpPr/>
          <p:nvPr/>
        </p:nvSpPr>
        <p:spPr>
          <a:xfrm>
            <a:off x="7358040" y="3571920"/>
            <a:ext cx="121464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24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428840" y="2643120"/>
            <a:ext cx="4214880" cy="928800"/>
            <a:chOff x="1428840" y="2643120"/>
            <a:chExt cx="4214880" cy="928800"/>
          </a:xfrm>
        </p:grpSpPr>
        <p:sp>
          <p:nvSpPr>
            <p:cNvPr id="1167" name="直接连接符 13"/>
            <p:cNvSpPr/>
            <p:nvPr/>
          </p:nvSpPr>
          <p:spPr>
            <a:xfrm>
              <a:off x="1428840" y="2643120"/>
              <a:ext cx="4214880" cy="928800"/>
            </a:xfrm>
            <a:prstGeom prst="line">
              <a:avLst/>
            </a:prstGeom>
            <a:ln w="93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1428840" y="2643120"/>
              <a:ext cx="4214880" cy="9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3428280" y="2642760"/>
            <a:ext cx="143640" cy="857520"/>
            <a:chOff x="3428280" y="2642760"/>
            <a:chExt cx="143640" cy="857520"/>
          </a:xfrm>
        </p:grpSpPr>
        <p:sp>
          <p:nvSpPr>
            <p:cNvPr id="1170" name="直接连接符 16"/>
            <p:cNvSpPr/>
            <p:nvPr/>
          </p:nvSpPr>
          <p:spPr>
            <a:xfrm>
              <a:off x="3428280" y="2643120"/>
              <a:ext cx="142920" cy="857160"/>
            </a:xfrm>
            <a:prstGeom prst="line">
              <a:avLst/>
            </a:prstGeom>
            <a:ln w="93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 txBox="1"/>
            <p:nvPr/>
          </p:nvSpPr>
          <p:spPr>
            <a:xfrm rot="16200000">
              <a:off x="3071880" y="2999880"/>
              <a:ext cx="8571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643720" y="2643120"/>
            <a:ext cx="2286000" cy="857160"/>
            <a:chOff x="5643720" y="2643120"/>
            <a:chExt cx="2286000" cy="857160"/>
          </a:xfrm>
        </p:grpSpPr>
        <p:sp>
          <p:nvSpPr>
            <p:cNvPr id="1173" name="直接连接符 18"/>
            <p:cNvSpPr/>
            <p:nvPr/>
          </p:nvSpPr>
          <p:spPr>
            <a:xfrm>
              <a:off x="5643720" y="2643120"/>
              <a:ext cx="2286000" cy="857160"/>
            </a:xfrm>
            <a:prstGeom prst="line">
              <a:avLst/>
            </a:prstGeom>
            <a:ln w="93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 txBox="1"/>
            <p:nvPr/>
          </p:nvSpPr>
          <p:spPr>
            <a:xfrm>
              <a:off x="5643720" y="2643120"/>
              <a:ext cx="2286000" cy="85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1285920" y="2643120"/>
            <a:ext cx="6500880" cy="928800"/>
            <a:chOff x="1285920" y="2643120"/>
            <a:chExt cx="6500880" cy="928800"/>
          </a:xfrm>
        </p:grpSpPr>
        <p:sp>
          <p:nvSpPr>
            <p:cNvPr id="1176" name="直接连接符 20"/>
            <p:cNvSpPr/>
            <p:nvPr/>
          </p:nvSpPr>
          <p:spPr>
            <a:xfrm flipH="1">
              <a:off x="1285920" y="2643120"/>
              <a:ext cx="6500880" cy="928800"/>
            </a:xfrm>
            <a:prstGeom prst="line">
              <a:avLst/>
            </a:prstGeom>
            <a:ln w="93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 txBox="1"/>
            <p:nvPr/>
          </p:nvSpPr>
          <p:spPr>
            <a:xfrm>
              <a:off x="1285920" y="2643120"/>
              <a:ext cx="6500880" cy="9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组合 2"/>
          <p:cNvGrpSpPr/>
          <p:nvPr/>
        </p:nvGrpSpPr>
        <p:grpSpPr>
          <a:xfrm>
            <a:off x="0" y="101520"/>
            <a:ext cx="2746440" cy="525600"/>
            <a:chOff x="0" y="101520"/>
            <a:chExt cx="2746440" cy="525600"/>
          </a:xfrm>
        </p:grpSpPr>
        <p:pic>
          <p:nvPicPr>
            <p:cNvPr id="1179" name="圆角矩形 6" descr=""/>
            <p:cNvPicPr/>
            <p:nvPr/>
          </p:nvPicPr>
          <p:blipFill>
            <a:blip r:embed="rId1"/>
            <a:stretch/>
          </p:blipFill>
          <p:spPr>
            <a:xfrm>
              <a:off x="123120" y="101520"/>
              <a:ext cx="2623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0" name="组合 4"/>
            <p:cNvGrpSpPr/>
            <p:nvPr/>
          </p:nvGrpSpPr>
          <p:grpSpPr>
            <a:xfrm>
              <a:off x="0" y="197280"/>
              <a:ext cx="362520" cy="272160"/>
              <a:chOff x="0" y="197280"/>
              <a:chExt cx="362520" cy="272160"/>
            </a:xfrm>
          </p:grpSpPr>
          <p:sp>
            <p:nvSpPr>
              <p:cNvPr id="1181" name="椭圆 2"/>
              <p:cNvSpPr/>
              <p:nvPr/>
            </p:nvSpPr>
            <p:spPr>
              <a:xfrm rot="16200000">
                <a:off x="228960" y="361080"/>
                <a:ext cx="9360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2" name="椭圆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2360" y="33948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3" name="椭圆 3"/>
              <p:cNvSpPr/>
              <p:nvPr/>
            </p:nvSpPr>
            <p:spPr>
              <a:xfrm rot="16200000">
                <a:off x="228960" y="240840"/>
                <a:ext cx="9360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4" name="椭圆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62360" y="21348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5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784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616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7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60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8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29196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03:17:17Z</dcterms:created>
  <dc:creator/>
  <dc:description/>
  <dc:language>en-US</dc:language>
  <cp:lastModifiedBy>万润仪器贸易公司</cp:lastModifiedBy>
  <dcterms:modified xsi:type="dcterms:W3CDTF">2020-08-21T01:50:45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